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E05-5933-4CA1-808A-614491D7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3EC-4F31-4DFC-A075-57AC188A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15E-4E48-414A-B89B-4042DCA6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726-BE26-48C8-9A48-3F17C0FB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13BD-7B03-487B-8A01-05A3F5D9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3C03-58B2-406A-81B6-31D05F9E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BDB8-313E-4CDB-B3B4-1EEB88CA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1FB6-13B7-4CCA-ABBA-2E2131F0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F4B4-6E68-4599-929D-A06A17D9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2233-B149-4BA9-9193-7E52DFD3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67B7-B90B-4ED8-9A89-AFFBFD1A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919-0DF9-4DAD-A07A-026B5F4F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5150-F10C-42B0-86D0-0B71CBC5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EEC5-66E5-4F2C-8FED-72F3C827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3A95-B2F3-44F1-801C-59C47684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91BA-B546-4172-9E19-A2FA8BDF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9E82-F196-4526-BB5E-70373891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930-B72E-4919-B926-88256569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654-6B55-40EC-8CBC-0E49A9A8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CD4-7A0A-43AE-AE1C-3984EC98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4F0-523F-495F-A02B-C29B226C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A01-C697-440A-935A-600475EC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349-B9DF-45B9-A218-D5777D3E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7AD-4337-49A1-A239-EC5398F7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8465-984B-481A-8DFA-39E5B2CCB34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CDC9-9BD2-4245-812D-B9CEBE17F5FC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kind of game is in the English sport centre Wimbledon played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782760" y="540972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4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55160" y="4221720"/>
            <a:ext cx="207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ennis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37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